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8AA-3F38-4F19-A944-621FA9E6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598-E7FD-4729-AFCD-9CB5B81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ABC-E433-4B01-80C1-2E31A6A6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ED1-2F06-4B93-9296-6A447F0A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90E-14AA-4666-91E1-BCC308C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8CF-B08D-4B65-809D-908D0F5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F4F29-A4F5-459B-8668-458210B5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3F08E-B50B-40BD-9A6B-B0BE9ED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94A13-CDFC-4468-9911-F525E8E3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A9C-E6B9-4FD9-988B-039EEAEF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1816F-ED62-4150-B18B-48E4838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B447A-DFB9-4193-9ED5-0BEEF47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7413A-42D2-488A-B04C-58D7F2BF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CD209-1341-4948-A4F0-FB7F70A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820DD-5995-4D00-85E7-8A2EDC3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FBB2F-F50C-460E-90F6-2932AE5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468C7-7446-49C0-AF30-DA9D944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30349-D93A-4340-98D7-1E27CE7E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5076B-C748-4A62-BAE4-D5B978F9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2131E-DD81-4811-90F7-BB88FBF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AE6-28C3-4950-8EE0-8CB6E8C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F3DF7-E4FC-4185-90FB-AF3517C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282A9-91C3-4FF2-9A9B-40874C9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244B7-24BC-49C6-8A41-465A8B5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BF5B5B-FBD5-4A5E-B344-F1FCF31D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F8CAC-7FCA-4EEE-8DA1-5097F3C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1EF10-6168-4B92-8B66-DB8D259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32A7DA-41A3-4DF3-9CAA-57B2D2A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4F9A3-5A96-4821-817A-7DF8667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014D3-D19A-4759-A474-676C2C7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AEA6E-033A-4B5B-9542-0D44BC7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D2A-3334-4880-90AE-2BDC75DE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CABD9-D3E7-4D82-AD14-9E0EA2C4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22D-3739-413C-AAD8-F82EE2A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764-22CB-4BA9-9107-3D8E089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FB6-0A4C-4948-B066-3A75060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69E9-B2D7-47E6-9994-10A5AAE8E6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04EF-0977-4A72-B93C-287220829B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E0F-AB4E-468E-9050-7E3CF86AF2C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9AB5-916F-4C70-97B7-7A1454F5C4A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611-338E-4919-B297-C960B2DD49C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F2B-1FF5-40DB-B918-1AD418573D24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97C-37A8-4FC9-8ABF-845C9FB1911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FA9-EB78-4E7C-9FD2-C048287A9E65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431"/>
                </a:solidFill>
                <a:latin typeface="Book Antiqua"/>
              </a:rPr>
              <a:t>Do Now- Remember to write the date, objective, and answer this question.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28600" y="17524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Describe the trees you see in Clarksdal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79200"/>
            <a:ext cx="80769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emperate Deciduous For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3428640"/>
            <a:ext cx="4724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04920" y="1752480"/>
            <a:ext cx="5257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The temperate deciduous forest has all four seas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5400720" y="3124080"/>
            <a:ext cx="374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5000" y="79200"/>
            <a:ext cx="8074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emperate Deciduous Fores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 trees in this forest are mostly deciduous trees.  Deciduous trees have leaves that change color and fall off in the autum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6400800" y="5038560"/>
            <a:ext cx="274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Describe the weather in a temperate deciduous forest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596880" y="3543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aig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3352320"/>
            <a:ext cx="426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80880" y="1981080"/>
            <a:ext cx="6629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The taiga has long cold winters and short cool summer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5105520" y="419256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aig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82844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The trees in the taiga are conifers, which have a conical shape and needles.  The conical shape allows these trees to shed snow easily without breaking limb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5346720" y="1346040"/>
            <a:ext cx="379728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of the taiga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96880" y="3543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undr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3352320"/>
            <a:ext cx="4264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0" y="2362320"/>
            <a:ext cx="82296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 tundra has very cold temperatures, short summers, and permafrost.  Permafrost means that the ground is always frozen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05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Agend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work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es on bio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ni-bio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Tundr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Book Antiqua"/>
              </a:rPr>
              <a:t>There are few animals in the tundra and no trees.  The plants in the tundra, like moss, lichens, and grass, need less light and can survive cold temperatures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tundra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is very cold, has short summers, and no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all four seasons and deciduous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3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long, cold winters and short, cool summer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4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permafrost and very few animal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5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ich biome has all four seasons and few trees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Which biome is dry and has large areas of gras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Which two biomes have forests of conifers (hint: one of them we talked about on Monday)?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8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Which biomes have few or no tree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deser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9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Book Antiqua"/>
              </a:rPr>
              <a:t>Most of Russia is covered in forests of conifers.  Winters in Russia are long and cold while summers are short and cool.  In which biome is Russia located?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0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Most of Georgia is covered in forests of trees whose leaves turn colors and fall off in the fall.  Georgia experiences all four seasons.  In which biome is Georgia locate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1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anzania is an African country home to animals like lions, elephants, zebras, and antelope.  Tanzania is covered in large areas of grass, few trees, and has a fairly dry climate.  In which biome is Tanzania locate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2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Northern Alaska is very cold and there is permafrost all year.  Few animals live there and there are no trees.  In which biome is Northern Alaska located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3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 characterize (describe) the grassland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4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4640" y="2070000"/>
            <a:ext cx="79218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r characterize (describe) the temperate deciduous forest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5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would you characterize the tundra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6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ook Antiqua"/>
              </a:rPr>
              <a:t>How would you characterize the taiga?</a:t>
            </a:r>
            <a:endParaRPr b="0" lang="en-US" sz="6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7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ich of the following best describes the plant life in the grassland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oniferous trees with needl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acti with waxy exteriors and sharp needl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rge areas of grass and few tre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1037520" indent="-705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rees whose leaves change color and fall off in the autum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8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temperate deciduous forest’s plant life is characterized by which of the followi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rees whose leaves change color and fall off in autumn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arge areas of grass and few tre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vergreen trees with needl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90200" indent="-447840"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anopied trees requiring much rainfall each ye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a tropical rainfores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9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The tundra plant life is characterized by which of the following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Trees whose leaves change color and fall off in autumn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Cacti with waxy exteriors and sharp needl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Evergreen trees with needl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lvl="1" marL="1092240" indent="-74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ook Antiqua"/>
              </a:rPr>
              <a:t>Small plants that can survive cold temperature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om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dependent Practi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671480"/>
            <a:ext cx="91440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Foldables: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On the outside: the biome name and a picture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On the inside – summarize information about the climate, plants, and animals of the biome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of a temperate rainforest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Book Antiqua"/>
              </a:rPr>
              <a:t>1.5 Biomes Part II: Class Notes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Grasslan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4640" y="1828800"/>
            <a:ext cx="784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59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The grassland is dry and has all four seasons. 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Grasslan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23619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Book Antiqua"/>
              </a:rPr>
              <a:t>The grassland has large areas of grass but few trees.  The plants in the grassland can survive long periods without rain. 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Describe the weather in the grassland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What kind of animals and plants might you find there?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43:23Z</dcterms:created>
  <dc:creator>vdbwahoo</dc:creator>
  <dc:description/>
  <dc:language>en-US</dc:language>
  <cp:lastModifiedBy>Caroline Roth</cp:lastModifiedBy>
  <dcterms:modified xsi:type="dcterms:W3CDTF">2011-05-23T04:33:09Z</dcterms:modified>
  <cp:revision>51</cp:revision>
  <dc:subject/>
  <dc:title>Biomes and Ecosystems</dc:title>
</cp:coreProperties>
</file>